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4D6-1295-4DDA-8D40-3D5700BE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C0E-FE40-4D4E-992C-3CA5AAF3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9616-61AB-4476-9A08-474EF3A9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2B3-ACFC-48E6-A9DB-02C7368D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2BA-41CD-4C69-AFC1-444F45C5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4F5-9AF2-461B-9B38-60FFBD73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431-30B3-4D2A-BEEE-C955B0FE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F8B-5197-4741-9E73-F8364672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03D-E501-45DA-924B-D8A8A35E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569-4630-4EAF-995A-0B39CB12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F78-FEB0-4CAB-8774-B7E36F3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61B-FB08-441A-884B-472C5452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F44D-50DC-4FD2-A2DD-D2D7CFA38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OCAS  SEDIMENTARI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ORMADAS  EN  LA  SUPERFICIE,  POR  EFECTO  DEL  SISTEMA  HIDROLÓG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LICAN  LOS  PROCESOS   SIGUI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TEORIZAC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:  LA  PARTE  MAS  SUPERFICIAL  DE  LA CORTEZA,   EXPUESTA   A   LA   INTEMPERIE   (INTEMPERIZACIÓN),   SE   “ALTERA”  ( o  “descompone”)   Y  EL  MATERIAL   SE    DESCOMPONE.        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S  ELEMENTOS  COMPONENTES  DEL   MACIZO  ROCOSO  SE  SUELTAN   (SE   “DISGREGAN”    O   “SEPARAN”),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A   CAUSA   DE   DETERMINADOS   PROCESOS   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QUÍM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y/o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CÁN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QUE  LO  AFECTAN   EN   CONTACTO  CON   LA   ATMÓ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ROSIÓN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    LOS  DIFERENTES  AGENTES    DEL  SISTEMA  HIDROLÓGICO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(hielo,  rios,  viento, etc. )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IENEN   U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FECTO  ABRASIVO   Y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ONA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LOS   BLOQUES  DE   ROCA,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SGASTANDO   LA   SUPERFICIE   EXPUESTA,      PROCESO   QUE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 VE  FACILITADO  POR 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EORIZACIÓN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PREVIA.  EL   DESGASTE   PRODUCIDO   POR  LA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ÓN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CONDUCE         AL   APLANAMIENTO  DE  LAS   PARTES   ALTAS   DEL  RELIEVE,  Y  LOS  CLASTOS  O   FRAGMENTOS   DE   ROCA   MENORES   (SEDIMENTOS),   PRODUCIDOS   POR   LA  EROSIÓN,   SE   ACUMULAN  LEJOS,   EN   LUGARES TOPOGRÁFICAMENTE  MAS   BAJOS    (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odificación del paisaj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NSPORT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:    LOS  CLASTOS  O  FRAGMENTOS  DE  ROCA   MENORES ,   DISGREGADOS  DE  LOS  BLOQUES   MAYORES  POR  EL  PROCESO  DE  EROSIÓN,   SON  TRASLAD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( o transportados),  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COMO   SEDIMENTO,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 LUGARES  TOPOGRÁFICAMENTE   MAS   BAJOS,   A   GRANDES  DISTANCIA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DE  SU  LUGAR   DE ORIGEN,    POR   EL  MISMO  AGENTE  DEL  SISTEMA  HIDROLÓGICO  QUE   LO EROSIONÓ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  distancia  y  velocidad  del   traslado  dependerá de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nergí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 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rza)   y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naturalez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l  agente   transportador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(agua, viento o hielo)   y   del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mañ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rm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l  material   transportado  (“competencia”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OSITACIÓN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:  LA  CAPACIDAD  DE  TRANSPORTE     DISMINUYE  O  DESAPARECE,  Y   EL MATERIAL  TRANSPORTADO  ( SEDIMENTO)   DECANTA   Y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EN   EL  “FONDO”  (o  “piso”),    FORMANDO  UN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ÓSITO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DIMENTARI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;   LOS  ELEMENTOS  TRANSPORTADOS   EN  SOLUCIÓN   PRECIPITAN  QUÍMICAMENTE.                                                                                            LA   MATERIA   ORGÁNICA,   SIN   VIDA,   TAMBIÉN  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Y  ACUMULA  EN  EL FONDO  (o  piso)   DEL  MEDIO  DONDE  VIVÍ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IFICACIÓN  O  DIAGÉNESIS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PROCESOS   FÍSICOS   Y   QUÍMICOS   QUE  TRANSFORMAN   EL  DEPÓSITO  SEDIMENTARIO  EN  ROCA  SEDIMENTARIA.  LOS  FACTORES  MAS  IMPORTANTES   SO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temperatura,  la presión  litostática  y  las  soluciones   que  lo atraviesan y  que  contienen elementos  que  “pegan”  o  cementantan     los granos  o clastos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S   ETAPAS  PRINCIPALES  SO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el hundimiento,    la compactación   y  la  c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CONCEPTO   DE   FACIES: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PARIENCIA  GENERAL   DEL  DEPÓSITO   O   LA   ROCA  SEDIMENTARIA,    DETERMINADA  POR   LAS     CARACTERÍSTICAS  FÍSICAS   Y  QUÍMICAS   DE  SUS    COMPONENTES,    Y    POR   LA  RELACIÓN   Y  ARREGLO   DE  TODOS  SUS   ELEMENTOS  INTEGRANTES.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   PARTIR  DEL ESTUDIO  DE  LA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FACIES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 DE  UN  DETERMINADO   DEPÓSITO  O  ROCA  SEDIMENTARIA,  SE  PUEDEN  DETERMINAR   LAS  CONDICIONES  Y  CIRCUSTANCIAS  EN  QUE  SE  DESARROLLARON  LOS  PROCESOS   SEDIMENTARIOS  QUE  CONDUJERON  A   LA  FORMACIÓN  DE   ESE  DEPÓSITO  O  ROCA  SEDIMANTARIA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A  SUMA  DE  LAS  CARACTERÍSTICAS    LITOLÓGICAS 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litofacies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)   Y   BIOLÓGICAS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biofacie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)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   UN  DEPÓSITO  SEDIMENTARIO   DEFINEN    LAS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FACIES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L   DEPÓSITO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Y   EL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AMBIENTE   DE  DEPOSITACIÓN.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OS   AMBIENTES  DE  DEPOSITACIÓN   PUEDEN  SER  CONTINENTALES  (subacuáticos  y  aéreos  o  secos)  Y   MARINOS.   Pueden  ser   fluvial,  abanico fluvial,   eólico,  glaciar,  fluivio-glaciar,  deltaico,  de playa  o  linea  de costa,  arrecife,  marino somero,  marino profundo,  y otros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PALEOGEOGRAFÍA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:   RECONSTITUCIÓN   DE   LA   GEOGRAFÍA PRETÉRITA (PASADA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Concepto  de   </a:t>
            </a:r>
            <a:r>
              <a:rPr b="1" lang="es-ES" sz="1700" spc="-1" strike="noStrike">
                <a:solidFill>
                  <a:srgbClr val="ffffff"/>
                </a:solidFill>
                <a:latin typeface="Times New Roman"/>
              </a:rPr>
              <a:t>Cuenca  de   sedimentación     </a:t>
            </a: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(profundidad,  distancia  de  las  fuentes de aporte  y  bordes  de cuenca,  evolución  de la cuenca,  otros)</a:t>
            </a: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L  ESTRATO: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  ES LA  ESTRUCTURA MAS   IMPORTANTE.          LAS ROCAS  SEDIMENTARIAS SE PRESENTAN EN ESTRATOS  O  CAPAS   DE ROCA  DE DIFERENTES TIPOS,  DE  COLORES Y TEXTURAS DIFERENTES, SOBREPUESTAS (APILADAS)  UNA SOBRE LA OTRA, ORIGINALMENTE HORIZONTALES  (SECUENCIA DE ROCAS SEDIMENTARIAS)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STRUCTURAS PRIMARIA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:  ESTRATIFICACIÓN CRUZADA  (capas inclinadas formando un ángulo con la base de la superior); ESTRATIFICACIÓN GRADADA  (producidas por corrientes de turbidez  (turbiditas)), “RIPPLE MARKS” U ONDULITAS, GRIETAS DE BARRO Y OTRAS IMPRESIONES DE SUPERFICIE (que muestran que los ambientes sedimentarios quedan expuestos un tiempo al aire durante su depositación, antes que se deposite encima una nueva capa de sedimento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FÓSILES:  SON COMUNES DE ENCONTARR EN LAS ROCAS SEDIMENTAR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ES TIPOS DE ROC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CLÁSTIC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mpuestas por fragmentos de rocas preexistentes, de todos los tamaños, desde fracciones de milímetros a decenas de centímetros.  Se clasifican según el tamaño de los clastos en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GLOM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&gt; 2  mm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ARENÍS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2 - 02  mm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MOL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&gt; 0,2  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QUÍMICAS Y ORGÁNICAS: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uesta de materia precipitada químicamente y de restos orgánicos decantados. ejemplos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IZ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C O3);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LOM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Mg (C O3)2;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 COMÚ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Na Cl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YES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SO4. 2H2O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IT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ocas formadas por evaporación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0:54:27Z</dcterms:created>
  <dc:creator>Universidad de Chile</dc:creator>
  <dc:description/>
  <dc:language>en-US</dc:language>
  <cp:lastModifiedBy>Compaq</cp:lastModifiedBy>
  <dcterms:modified xsi:type="dcterms:W3CDTF">2001-08-16T05:51:09Z</dcterms:modified>
  <cp:revision>24</cp:revision>
  <dc:subject/>
  <dc:title>ROCAS SEDIMENTARIAS SE FORMAN EN SUPERFICIE POR EFECTO DEL SISTEMA HIDROLÓGICO</dc:title>
</cp:coreProperties>
</file>